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75921"/>
        <c:axId val="10637561"/>
      </c:barChart>
      <c:catAx>
        <c:axId val="47759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637561"/>
        <c:crosses val="autoZero"/>
        <c:auto val="1"/>
        <c:lblAlgn val="ctr"/>
        <c:lblOffset val="100"/>
        <c:noMultiLvlLbl val="0"/>
      </c:catAx>
      <c:valAx>
        <c:axId val="106375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759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01C0-F1C6-4FA1-BDAB-7AA547505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CC01-CE04-4B02-9510-272D6CEF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FE94-566E-474B-84FD-DADB45797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B886-1D4E-4C78-8A97-AF1361931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4E7B-31AA-43C3-A2F3-C6E2DE1D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83CB-40BF-4390-BB69-8F9C1C7B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E191-5EB0-4C9F-90F3-7D4092AE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5230-FC25-49B6-8671-FF7235BA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BA5B-CB15-4099-9360-3EEA16BB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F458-5452-4BCB-B79B-5432F9B0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6476-04D2-4F76-BA88-AAD94E19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0C7F-7AC3-4241-9C04-C58ACA04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2D554-E078-4EE6-96CC-5FCFB813EE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