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949317"/>
        <c:axId val="58497146"/>
      </c:barChart>
      <c:catAx>
        <c:axId val="199493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97146"/>
        <c:crosses val="autoZero"/>
        <c:auto val="1"/>
        <c:lblAlgn val="ctr"/>
        <c:lblOffset val="100"/>
        <c:noMultiLvlLbl val="0"/>
      </c:catAx>
      <c:valAx>
        <c:axId val="584971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9493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620E-9BE2-4ACE-88EE-6A70C49CF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721E-F09A-4F9A-8FFB-31C90CEC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91BA-6A3E-4FA7-907F-7ABEB64AE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1390-002B-4D88-98A4-028946EE4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8097-F400-4F93-83E3-745E2B14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CC56-89C4-46BE-8A5B-96E69CAB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C46D-800A-4D8B-9DC6-17390BF7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BD74-41FF-4ED5-83FD-3F207318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9B02-6ADB-400F-8187-A5E02CA9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C44D-F0C2-4D1B-8EAE-D240E84D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0406-3C06-440D-AF77-7560D551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CEF0-58BD-4854-B247-F393419A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AFAA6-C4E5-447F-BCD8-BCA1EE863B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