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93681"/>
        <c:axId val="12878542"/>
      </c:barChart>
      <c:catAx>
        <c:axId val="57593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78542"/>
        <c:crosses val="autoZero"/>
        <c:auto val="1"/>
        <c:lblAlgn val="ctr"/>
        <c:lblOffset val="100"/>
        <c:noMultiLvlLbl val="0"/>
      </c:catAx>
      <c:valAx>
        <c:axId val="12878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93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AB9-F3C6-4F29-B149-18CBC4F8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F47-3D1D-4D07-A065-1B86DD8C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E41-8B7A-4B4E-BB10-8A374FB3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127-BED8-4082-99F5-D98685F3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803-E9F8-4EE5-B49D-1F6EB391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432-B28E-415C-904E-508785B0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860-7884-4164-9DD8-D415AE91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42B-A257-4C0D-866F-833FEA96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D0F-0C34-4DBA-895C-29C67C42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C4C-79D7-447F-9DF2-AB3008EF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739-308D-4298-9611-B7B0D893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BCA-686E-4313-A5B1-ECE4A3D4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A4445-86CA-415A-AD54-65A43EDF6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