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6013373"/>
        <c:axId val="71089919"/>
      </c:barChart>
      <c:catAx>
        <c:axId val="7601337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089919"/>
        <c:crosses val="autoZero"/>
        <c:auto val="1"/>
        <c:lblAlgn val="ctr"/>
        <c:lblOffset val="100"/>
        <c:noMultiLvlLbl val="0"/>
      </c:catAx>
      <c:valAx>
        <c:axId val="7108991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01337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408E-495E-41E1-89B7-14C1EB8F5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E7A9-4EB5-4654-9CDC-F9F4FEA85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243C-05CA-465F-BCB2-318AD8015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F935-06C9-40C3-B21F-BE8C5CF9B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405E-1BFE-4E15-A60D-74297A5AB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9360-B80D-4EB1-A2FC-3329ABA40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545A-B881-490D-8893-2D80A31DF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C9C9-8339-4064-BE9B-6CAD1CB6B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615D-3F1D-4929-816A-DB92D544B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1AD5-4FDA-4008-903F-075CE9541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A82A-9358-4C1E-B294-FF5C0C6B9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7A6E-F179-4B28-AE2B-8C50796A6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AF2714-6793-40F3-B9C8-2708D53A7A8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