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82538"/>
        <c:axId val="79547430"/>
      </c:barChart>
      <c:catAx>
        <c:axId val="28082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47430"/>
        <c:crosses val="autoZero"/>
        <c:auto val="1"/>
        <c:lblAlgn val="ctr"/>
        <c:lblOffset val="100"/>
        <c:noMultiLvlLbl val="0"/>
      </c:catAx>
      <c:valAx>
        <c:axId val="79547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82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356-3838-4E84-A768-71A45B49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08E-FE0E-4267-A250-3390FCF5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D15-1584-4B96-B461-64C21A23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02E-3B9F-4DED-AFC9-D94D6AC0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AC0D-7B51-4F3B-94B4-F405B2DD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66B-7420-4D5A-A78B-52394A75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2A0-00F9-41B2-AADF-C09ADBD7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207-3734-4C20-B7C9-D59D123B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43E-9EF9-4811-A50C-E9C20FA2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92A-A4A4-4B38-8CD5-75E8252D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C05-8814-478E-8644-23214322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A1C-716D-47B4-977E-6CEA499F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93282-9CC4-4899-AD62-DA9666897D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