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65831"/>
        <c:axId val="35164846"/>
      </c:barChart>
      <c:catAx>
        <c:axId val="81865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64846"/>
        <c:crosses val="autoZero"/>
        <c:auto val="1"/>
        <c:lblAlgn val="ctr"/>
        <c:lblOffset val="100"/>
        <c:noMultiLvlLbl val="0"/>
      </c:catAx>
      <c:valAx>
        <c:axId val="35164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65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C10-5F91-4C65-A208-929EFD75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345-5B1C-4AFF-9321-A588992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7B9-E47B-483E-A349-D3BC5836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408-C7EB-4D8D-9A5B-4A8B4AA7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AB9-2F13-4DC6-9CAD-9B5E43A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836-A25C-4F86-91BA-E4C8BF3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521-584B-459C-9120-E99B6FF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475-EE6A-4684-A24B-863DB29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E80-B698-405C-9FD1-F5F587B1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630-26B9-4788-A64F-EC35404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058-06FD-4901-924B-D1A7B793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945-7620-4D1A-9660-2FB5D25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06662-53EE-40CB-A65D-4C35662CA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