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34692"/>
        <c:axId val="10432191"/>
      </c:barChart>
      <c:catAx>
        <c:axId val="78434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32191"/>
        <c:crosses val="autoZero"/>
        <c:auto val="1"/>
        <c:lblAlgn val="ctr"/>
        <c:lblOffset val="100"/>
        <c:noMultiLvlLbl val="0"/>
      </c:catAx>
      <c:valAx>
        <c:axId val="10432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34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F7A-3F23-4E42-BBA3-4667BB1F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F03-3A76-4FDA-BF79-78712428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C28-01AC-4BEA-BFDE-3D102FA0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90F-2C15-4A51-AEFA-C5C6C817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F46-5FC3-475E-A8D9-C6CCE3A6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865-777A-4B97-A05E-DDC16016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980-3876-465A-8785-D5B3A82E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FBB-CB1A-499A-B848-B3BE1E21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426-4B21-4A2F-89D3-09DC652A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848-305E-44FF-9540-C8344C1D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0FF-1054-4D13-822E-C564ED0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947-F13C-44A4-87EA-369365FC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BF4EA-96C8-4693-9AB2-66B27E39D4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