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2822"/>
        <c:axId val="62151499"/>
      </c:barChart>
      <c:catAx>
        <c:axId val="1172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51499"/>
        <c:crosses val="autoZero"/>
        <c:auto val="1"/>
        <c:lblAlgn val="ctr"/>
        <c:lblOffset val="100"/>
        <c:noMultiLvlLbl val="0"/>
      </c:catAx>
      <c:valAx>
        <c:axId val="62151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2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E90-B00D-4362-BA7A-82791953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082-564A-43B8-B5AF-4CEB6C24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400-04FD-4097-AACB-D2C8FD9E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DB3-0CDF-4C4B-97E4-89F023DA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98A-BE82-42B1-9001-2F02E025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BCA-1EFE-4EAF-BDEE-461D2AB6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418-2D57-4BE8-A15D-884FB2E4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45A-26FD-4C5D-833B-21E07959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18C-04A8-41E0-856C-CA48B10E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F67-8A3C-4F59-BA30-3EAC6D84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E30-99A2-4A81-BE1F-213A0C41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E2D-E069-4CDD-AE83-2BC21287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A41DE-E379-4250-ADB6-5AA8FE50A9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