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13798"/>
        <c:axId val="11894668"/>
      </c:barChart>
      <c:catAx>
        <c:axId val="62013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94668"/>
        <c:crosses val="autoZero"/>
        <c:auto val="1"/>
        <c:lblAlgn val="ctr"/>
        <c:lblOffset val="100"/>
        <c:noMultiLvlLbl val="0"/>
      </c:catAx>
      <c:valAx>
        <c:axId val="11894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13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4A1-6349-4554-8CD0-8219C3E3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3BE-5D34-409D-9ED8-739591A6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14A-5181-476E-832F-B6A1C9ED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25E-B267-4F6E-8D79-1BF032A2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889-17F2-4592-962F-E7AFC209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08E-68F8-4225-8CF6-65CD1187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31D-C932-46E8-B491-886147AC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D2A-9371-4F28-A359-6DB9D2D6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89B-CE36-4E06-9010-3A97A530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0F3-D8B3-4CE0-8F36-A2CE53B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DF5-5455-4BBB-9429-2620A9F1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17B-A549-4E5A-A47B-4F1CED7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25AC9-A00A-4180-BB3F-26F6CFD0C6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