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99732"/>
        <c:axId val="16410264"/>
      </c:barChart>
      <c:catAx>
        <c:axId val="16999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10264"/>
        <c:crosses val="autoZero"/>
        <c:auto val="1"/>
        <c:lblAlgn val="ctr"/>
        <c:lblOffset val="100"/>
        <c:noMultiLvlLbl val="0"/>
      </c:catAx>
      <c:valAx>
        <c:axId val="16410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99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EE7-51CC-4604-883C-4DA2ABA4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0FC-4163-4B5A-93C0-95F97714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20F-F465-4EB2-A565-C2E40115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E22-9FCF-497E-9397-55E25BF2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81E-788C-40B4-8EB7-65660D71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A7C-8EFF-48E4-A2B1-72DF5704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E6E-DA1E-4E69-AEEC-A7BA9CF4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CB5-288D-4428-A61D-A6B5DC59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AFE-5D39-4109-AF94-4312D623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1F9-46A3-49D3-BE36-9BFD1D98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296-AB2F-40E5-A5CB-FE0F4721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F8E-F908-44EE-AB5E-179A3A83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97BCE-AE57-4F79-BA9B-8D08DFD002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