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07909"/>
        <c:axId val="5379308"/>
      </c:barChart>
      <c:catAx>
        <c:axId val="678079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9308"/>
        <c:crosses val="autoZero"/>
        <c:auto val="1"/>
        <c:lblAlgn val="ctr"/>
        <c:lblOffset val="100"/>
        <c:noMultiLvlLbl val="0"/>
      </c:catAx>
      <c:valAx>
        <c:axId val="53793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079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8644-0EBC-406B-87EC-2BEF0A33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95A-06E0-4FC0-BDEE-B8758BB8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C826-5535-498A-A9DF-40B13A6E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059-38BB-41A7-B2F9-86C316F7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854A-3BA4-4FAF-B415-84BC48FC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068-2D65-4B56-B1B5-C9EECFE0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09F-2088-4684-91E0-C2217437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AC3-D5FE-4F00-A729-CCCCC880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7A2-6940-4731-AD62-148BA18D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AD2D-04C5-4AF1-9219-4C27CFD4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DE0-CC07-4C02-9006-55A5F97D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C1B-00E5-4E54-A2A3-FF7FEF5E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61BCA-50F5-4051-BEBA-F0696D7618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