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22871"/>
        <c:axId val="95282936"/>
      </c:barChart>
      <c:catAx>
        <c:axId val="339228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82936"/>
        <c:crosses val="autoZero"/>
        <c:auto val="1"/>
        <c:lblAlgn val="ctr"/>
        <c:lblOffset val="100"/>
        <c:noMultiLvlLbl val="0"/>
      </c:catAx>
      <c:valAx>
        <c:axId val="952829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228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C17-4993-41E4-BA4F-5D894355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08B-17A5-4522-8851-3C302CA6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0E2-0986-4459-803B-6747E63C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7605-4390-4056-94E8-76E4512F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183-B362-4A87-8B71-976D4C05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DB51-7B6A-4B13-BBDE-A3385984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5979-C38F-4C84-8836-A2B3DF9D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6DEE-4208-43B5-8336-7E7ADBDB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B4ED-4C0D-4AEA-8C32-4F5F20CE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3B2-A544-4FC5-84F3-6342B810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46D-3D4D-4280-9CEF-BBC051ED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57BA-AAF8-4384-BC61-C6B15C56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2DE19-0092-4808-BD90-AE26DB7BC0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