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9483"/>
        <c:axId val="70332347"/>
      </c:barChart>
      <c:catAx>
        <c:axId val="66909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32347"/>
        <c:crosses val="autoZero"/>
        <c:auto val="1"/>
        <c:lblAlgn val="ctr"/>
        <c:lblOffset val="100"/>
        <c:noMultiLvlLbl val="0"/>
      </c:catAx>
      <c:valAx>
        <c:axId val="70332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9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C79-9362-40C8-9030-C3DBE95A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632-9011-4BEE-A9BE-A6BABB82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1C6-84AE-4D74-83FC-4AA296B9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0D2-6AE1-495F-8CDA-B753573B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5EB-CDCA-40C5-BB62-42D483B7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D9E-2023-4AB4-907C-5A12C9D5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9ED-34C5-4A36-828A-3A6649B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A44-E24C-4B4F-96A6-954C6152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F0A-0D73-4CCC-9857-DDF13F9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097-82C0-4F7C-B0D2-0DE7771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CFC-DAD0-4963-9B8F-35C493D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8ED-9712-4C78-B65B-71AD42C3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2B474-B8FC-451F-947B-BCF982E97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