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34699"/>
        <c:axId val="42731100"/>
      </c:barChart>
      <c:catAx>
        <c:axId val="4243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1100"/>
        <c:crosses val="autoZero"/>
        <c:auto val="1"/>
        <c:lblAlgn val="ctr"/>
        <c:lblOffset val="100"/>
        <c:noMultiLvlLbl val="0"/>
      </c:catAx>
      <c:valAx>
        <c:axId val="4273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588-A4E1-4C04-8EE5-286D5EA5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E4C-6FC2-486E-B48B-4B6B5D4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05F-7450-4909-B11E-E3EB6A86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CE1-0DFB-493B-B50E-1C70593B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151-E867-458E-8D55-14AC89F6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D90-185C-4327-B1BE-B1384AFB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F6D-3E8A-41A0-BA49-C47FCFA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5DA-1D03-472D-8B49-27C65175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2ED-938C-4F39-BC04-7A0505F2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23C-6725-454A-80F5-32212C8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961-5563-4DB2-A733-516DF77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414-088D-4541-AAFB-B2714B85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32EC-3710-4CE5-9820-B387CAC850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