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13272"/>
        <c:axId val="82313030"/>
      </c:barChart>
      <c:catAx>
        <c:axId val="30713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13030"/>
        <c:crosses val="autoZero"/>
        <c:auto val="1"/>
        <c:lblAlgn val="ctr"/>
        <c:lblOffset val="100"/>
        <c:noMultiLvlLbl val="0"/>
      </c:catAx>
      <c:valAx>
        <c:axId val="82313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13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2C8-0055-4AF1-BD1B-787D50C5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D36-F3A0-4288-9801-B7F8F419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CD8-9F5E-4722-A077-AE5495F1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E0B-E42E-4CFA-AC4A-B5DEF6B5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241-41F0-4EEB-AE98-E6ADA9D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874-6E1D-4B0B-BDBE-0AF164D8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68B-316B-4919-97AB-F666905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342-C0C9-4CF8-9C83-3E5BDAF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B63-8819-49CF-A274-FDEB02B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A57-D177-4A35-A284-6C94C01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581-2E46-4A64-ACF3-6F5D7A0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295-BEB9-4502-B836-08F2682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B1FC6-FE49-4E73-B101-875B6B3862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