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40260"/>
        <c:axId val="67311293"/>
      </c:barChart>
      <c:catAx>
        <c:axId val="23740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11293"/>
        <c:crosses val="autoZero"/>
        <c:auto val="1"/>
        <c:lblAlgn val="ctr"/>
        <c:lblOffset val="100"/>
        <c:noMultiLvlLbl val="0"/>
      </c:catAx>
      <c:valAx>
        <c:axId val="67311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0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43F-C7FC-4EA6-A07E-4C2ABF24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1BF-A605-47F2-80FB-783D66B2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283-9202-4B42-A5D9-49C8CE59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EB5-9AAF-44CB-A30E-21BE4610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F48-16E8-44E3-A0DD-24401E12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F3B-2BC4-4494-B071-9F6E5E08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3D8-DF61-498F-A56C-8BE9F266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E19-DCCB-4AA0-94C6-B7C34422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15D-1BC2-43BF-BC91-AAC6151B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FFC-ABC0-47F5-A60A-A246651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619-FBD2-4CAA-A0A1-42C56AB9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AAF-B346-4FC9-BC0F-7C663CA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3F682-C164-47A5-BF0C-B77C6517D6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