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88883"/>
        <c:axId val="13906818"/>
      </c:barChart>
      <c:catAx>
        <c:axId val="77188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06818"/>
        <c:crosses val="autoZero"/>
        <c:auto val="1"/>
        <c:lblAlgn val="ctr"/>
        <c:lblOffset val="100"/>
        <c:noMultiLvlLbl val="0"/>
      </c:catAx>
      <c:valAx>
        <c:axId val="13906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88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F8D-5CE4-41BD-A226-7407EF5B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919-685E-41E3-ADF4-1BBE5F44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9DC9-8909-4F08-A69E-1DDB0593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9F48-6008-4269-8D65-393A4F2F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269-8BF0-49B1-B480-4461541F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C85-7E8E-4E35-8B08-233FE2D7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62C-AD87-432F-9DA1-9E852DDF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A6B8-471D-4223-9783-00849323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1FE-9CC8-43BB-BC25-87C471FB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81A0-5B2D-4ED2-946C-47457D46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1B1-D9C8-428B-AA30-9B8B917D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04E4-0D74-4DFB-9CFD-B3ADD481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A4F97-7E8A-48A4-B10B-A278B70071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