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63248"/>
        <c:axId val="31178774"/>
      </c:barChart>
      <c:catAx>
        <c:axId val="65663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78774"/>
        <c:crosses val="autoZero"/>
        <c:auto val="1"/>
        <c:lblAlgn val="ctr"/>
        <c:lblOffset val="100"/>
        <c:noMultiLvlLbl val="0"/>
      </c:catAx>
      <c:valAx>
        <c:axId val="31178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63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723-41F2-4C25-986B-08DF6F40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CE3-4085-4934-9731-3704B4F5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1E5-1C99-4471-AB1D-5DA9BBD6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919-3AD0-457B-882F-F1F16C30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4EC-CAF4-4184-AB14-075BE592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0A4-CDFE-4D09-9C75-255D3EC9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897-2B0A-4902-B33C-11C15BE6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F7F-ECE6-4253-8DC7-94A68485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C6A-F1FB-4CF5-9B9E-C3BC28DD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EE1-2CB3-4734-8BA9-DFE61136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3FD-4543-4D64-8638-70EE40A0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145-F4D8-4DE7-AE5F-98EF789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CBE7A-8665-4CB9-A08D-6CFFED9A4A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