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84967"/>
        <c:axId val="6945877"/>
      </c:barChart>
      <c:catAx>
        <c:axId val="13784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5877"/>
        <c:crosses val="autoZero"/>
        <c:auto val="1"/>
        <c:lblAlgn val="ctr"/>
        <c:lblOffset val="100"/>
        <c:noMultiLvlLbl val="0"/>
      </c:catAx>
      <c:valAx>
        <c:axId val="6945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84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7CE-4961-409E-9DBA-FA8CF3CC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439-19DC-457F-8ABF-0DB3BAE3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E01-67EE-490E-B7B8-23B7C0DA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78D-AB97-40C7-ADF7-ED72F376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6C9-C039-4802-92AE-4333EF68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385-C866-4DC0-B62C-81457DCC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1C1-FE79-465E-AF1E-2C39E9A7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143-8391-4CF0-B698-904D94EB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E71-09BE-4683-8956-6769E17D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16B-8FDB-46F8-B672-4D8DBE8A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53E-FB12-47E1-9A9F-7EBB32A4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A11-BF4B-4A55-83AE-5B86C99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D72EF-4F01-4646-A84E-80DA12E96D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