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11833"/>
        <c:axId val="14647492"/>
      </c:barChart>
      <c:catAx>
        <c:axId val="15811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47492"/>
        <c:crosses val="autoZero"/>
        <c:auto val="1"/>
        <c:lblAlgn val="ctr"/>
        <c:lblOffset val="100"/>
        <c:noMultiLvlLbl val="0"/>
      </c:catAx>
      <c:valAx>
        <c:axId val="14647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11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E9D-378D-4517-858A-5C5777F7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F75-FA1A-4EDC-93F3-CA6363B3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DC1-FA9F-4D37-A932-67C8F8D0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AF6-8E7D-40BF-81CB-8A60A8A0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A31-09ED-43BE-B1AD-65853127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70D-1451-4EAF-B91A-4E78FB69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714-EB50-41F1-A461-F90861AE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C08-2E18-4AEA-86A7-0D47C23C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34B-DE75-4D75-B99D-9DFA49A6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0C3-69F4-4FB0-8329-59DCC749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D7E-4C38-4B61-AEF9-A4E4C315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9D6-AC1E-4B5C-B318-A7360BE1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A6651-0357-4BE4-913A-081E169303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