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62621"/>
        <c:axId val="68850698"/>
      </c:barChart>
      <c:catAx>
        <c:axId val="99062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50698"/>
        <c:crosses val="autoZero"/>
        <c:auto val="1"/>
        <c:lblAlgn val="ctr"/>
        <c:lblOffset val="100"/>
        <c:noMultiLvlLbl val="0"/>
      </c:catAx>
      <c:valAx>
        <c:axId val="68850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62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054-356B-4EBB-AB0B-D3EF2C79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A32-87A3-425B-A830-9F103F16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099-0155-413D-8EC3-3A4AEF6C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863-E1D4-43B8-852B-53F3D2E0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552-DD0C-47D4-B688-8614A290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EA8-91EB-4A27-84B6-9147237C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5BB-CD8D-4284-8B22-BB447C26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2D5-0C07-4FC8-9082-7879C2E4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367-3AE9-42BA-B7AB-90547571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80D-D318-4312-9694-E20B184D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272-C1D6-40E8-BB14-EF2F885D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107-62AE-46B2-95BB-F449E0E6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F4099-3574-4FCA-8A58-A118556538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