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22129"/>
        <c:axId val="29897245"/>
      </c:barChart>
      <c:catAx>
        <c:axId val="82122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97245"/>
        <c:crosses val="autoZero"/>
        <c:auto val="1"/>
        <c:lblAlgn val="ctr"/>
        <c:lblOffset val="100"/>
        <c:noMultiLvlLbl val="0"/>
      </c:catAx>
      <c:valAx>
        <c:axId val="298972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22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8751-8945-4556-8FB8-DE79216F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716-95F9-4FC5-869F-21588CAF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B3C-F96A-4C0F-A192-B3EF2BA4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F9D-73D9-4389-8FC2-F589E6A3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C83-378D-4BC8-9906-820E9173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A0B-61E0-4D1F-B179-9648AEDF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BB6-E9D5-4267-A8E8-E320BC31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060-7A55-4F35-82B3-087BFC2A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215A-35DD-40E5-95DC-0328B141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85E-6E3B-4C85-B186-DC779140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138C-9450-4ABC-B40D-0E35DC04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4F5-5402-44D9-8A09-D3228E6D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A4E5A-1981-4F22-BE05-74676899A8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