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25593"/>
        <c:axId val="8600720"/>
      </c:barChart>
      <c:catAx>
        <c:axId val="16625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0720"/>
        <c:crosses val="autoZero"/>
        <c:auto val="1"/>
        <c:lblAlgn val="ctr"/>
        <c:lblOffset val="100"/>
        <c:noMultiLvlLbl val="0"/>
      </c:catAx>
      <c:valAx>
        <c:axId val="8600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25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2EC-7EC5-4AF5-A95F-06E7029B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3A2-B55A-4043-83F1-9EF1A5E4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A43-803B-4E7D-A179-FDA69F46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DB7-67B3-45E4-AC88-ADEB7CAD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48D-3E83-41C7-82E0-75A27B15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8D6-425E-4EA9-8141-DC2D81EB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23B-B1AC-44E2-8B7C-E61F302D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829-7BD4-4666-84E6-8879EE0D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F05-F6B7-41B7-8A34-680C493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C85-3BA8-417B-9572-213345BF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A83-93E5-4A0C-B9E5-CACCDA3F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4C2-120C-4FDF-A75A-39B1E1A5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7B79B-EBF5-4801-9F86-AA0458E80C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