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9086"/>
        <c:axId val="17593210"/>
      </c:barChart>
      <c:catAx>
        <c:axId val="47790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93210"/>
        <c:crosses val="autoZero"/>
        <c:auto val="1"/>
        <c:lblAlgn val="ctr"/>
        <c:lblOffset val="100"/>
        <c:noMultiLvlLbl val="0"/>
      </c:catAx>
      <c:valAx>
        <c:axId val="17593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90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0100-7CDD-46ED-8414-00FC10C1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C2B1-074F-410D-9BED-896523EE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1A7-21CE-48B4-A982-BC56F166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ABB-6BC1-46C1-9440-45A1F16E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EF4F-49D4-4A2E-9831-9E6DDDF5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55B-5BD6-42AA-B16A-C3B2B7B5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6956-A65B-4837-BD5C-F018B1B9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151-04C1-438A-8FB0-AB3A6D31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90A8-2F05-411D-8B39-49ED9E59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F37-3612-498A-91BE-DB70AD90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FCED-22A4-4860-B61C-2731DC5E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0FF4-300B-4C4E-9E8F-2541AA03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3C375-D582-4055-998F-DF7FE28206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