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90780"/>
        <c:axId val="37539005"/>
      </c:barChart>
      <c:catAx>
        <c:axId val="2190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39005"/>
        <c:crosses val="autoZero"/>
        <c:auto val="1"/>
        <c:lblAlgn val="ctr"/>
        <c:lblOffset val="100"/>
        <c:noMultiLvlLbl val="0"/>
      </c:catAx>
      <c:valAx>
        <c:axId val="37539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0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5590-0333-4B24-9227-89C992CB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587C-7D12-4D2C-9DF6-901B4715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FA27-CA21-4677-893F-C66BC133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2887-7829-41D3-A5DC-FFD30D1A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589-FA64-4A70-921F-3CF5DD5D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317C-085C-4D79-B00F-E2E56330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E96-5369-481B-BC47-33C06D41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6C6-4BE3-4B55-B50F-B3B7FE1A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DB91-21B4-44C6-A31A-95BD9057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AB83-432F-49F4-95F9-CEAE1E5C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AEC-E7D7-4F13-8E36-34039129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79C-81D5-46D3-B5DC-7096C24C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CDF85-CB7A-40BE-B263-BF49B547B9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