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961953"/>
        <c:axId val="96459084"/>
      </c:barChart>
      <c:catAx>
        <c:axId val="309619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59084"/>
        <c:crosses val="autoZero"/>
        <c:auto val="1"/>
        <c:lblAlgn val="ctr"/>
        <c:lblOffset val="100"/>
        <c:noMultiLvlLbl val="0"/>
      </c:catAx>
      <c:valAx>
        <c:axId val="964590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9619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F8D9-B2B7-4BF7-A7DC-B4FDEEBAA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90BF-2343-4210-8523-286E8A54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3563-F0BD-4606-B552-03A2FC9A2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FF6C-FB32-4A12-A3AE-05928C7C6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9387-4240-4E10-83B5-0383B980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5214-D988-42AF-B494-5F0A8DA7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56FD-F93E-46FF-9BD1-B0BD9857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EE3E-CF48-46E3-8DAA-8CD43450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BE28-753C-4915-A687-E93DE001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D1AB-7E8F-47B2-8C78-F80A4D42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0D51-B937-4A8B-BD9F-D7B3A14C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E368-53F5-4C4D-A495-2CAEEBF0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F41A7-A28A-4E29-9031-939606D11C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