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47107"/>
        <c:axId val="61254874"/>
      </c:barChart>
      <c:catAx>
        <c:axId val="74647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4874"/>
        <c:crosses val="autoZero"/>
        <c:auto val="1"/>
        <c:lblAlgn val="ctr"/>
        <c:lblOffset val="100"/>
        <c:noMultiLvlLbl val="0"/>
      </c:catAx>
      <c:valAx>
        <c:axId val="61254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47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DBC-0F41-49C1-AF54-8F8C7C1E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934-251B-44DF-ACDE-3BFAD2E0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416-A273-4AF5-95D8-0E61ADFD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CE4-3ABF-4913-AB60-77116517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B23-9272-46DF-A3E8-65A9BDC8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2A0-25EF-4922-B446-E61A8022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74C-FCF0-4C90-8CA9-82A2EA4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DE3-01DF-4F76-819B-9FE026B5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ADA-089A-404A-AB3F-CE88D7D8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78D-1B6E-4164-B2D6-D6863451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E0A-F589-4C23-B1FD-D8F91BC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53C-464B-4D72-ABA8-FA2B48B1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985D1-A2C5-4A1F-B533-8687AC26D4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