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77918"/>
        <c:axId val="35546219"/>
      </c:barChart>
      <c:catAx>
        <c:axId val="3087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6219"/>
        <c:crosses val="autoZero"/>
        <c:auto val="1"/>
        <c:lblAlgn val="ctr"/>
        <c:lblOffset val="100"/>
        <c:noMultiLvlLbl val="0"/>
      </c:catAx>
      <c:valAx>
        <c:axId val="35546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7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B62-8E5F-4B5F-AB04-6DCEAA4E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041-FF70-4308-942B-698F8161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8A9-1226-439F-959A-FAF511D2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3D5-9AA0-4851-9A98-851E6A99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375-B957-4EAD-8D9B-D26303A7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2DE-CD1E-4281-9AFA-A2D6BA26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ED6-6ADB-444F-843F-8FE81E3E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8DA-BD74-4C25-B6CA-7E26AA20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137-A611-4E30-8E2C-596730E3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ADA-7599-42F8-953E-DD6EA4C2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AF9-48F4-45FB-B1E2-78219CD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E0D-3C7E-4B16-BDF9-E0D695B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E7ECE-23C8-4EAD-B7E9-5C12AF807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