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44024"/>
        <c:axId val="96590744"/>
      </c:barChart>
      <c:catAx>
        <c:axId val="58944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90744"/>
        <c:crosses val="autoZero"/>
        <c:auto val="1"/>
        <c:lblAlgn val="ctr"/>
        <c:lblOffset val="100"/>
        <c:noMultiLvlLbl val="0"/>
      </c:catAx>
      <c:valAx>
        <c:axId val="96590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44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0B1-703D-4F99-BA39-A40F0E76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E71-5366-4379-A869-C70A1CAD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D4F-724B-4237-B6D9-6D042E71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2E8-BB9F-43AD-BC7B-2E4F47AC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942-FDC3-4543-BC06-845D91F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F4C-EF83-44F4-89D9-36CAE1D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529-0B8F-40FA-A0A4-CBDFC56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140-589B-4506-AD7E-266ED25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E57-13F9-4327-B651-754A119B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70B-DEF2-4BB0-B6E6-318A18D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739-9687-4C18-9CB4-5AD662DA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7E3-ED78-48FF-A711-7D7A4CF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FE8FF-939E-44A5-B265-3C281AC0F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